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6132-B67D-406A-87C4-7E7EE75A2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RL doesn’t just exist by itself.” Possible pear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he stage for the EL component, multiple intellig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guistic forms are semantic in n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ry forms are stored as mental pictures, or physical sen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s the question, ‘As familiar as we are with nonlinguistic forms Are we using nonlinguistic forms as much we could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role as coaches is to foster/promote these types of instructional techn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ive NLR tools are applicable in a wide variety of mediums: EL instruction, whole class instruction, multiple instruc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re looking at the benefit of this  instructional technique through somewhat of an artificial lens.  Several inter-related factors combine to create excellent pedagogy.  We need to be thoughtful in our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B2E6-C78F-448C-A1DA-076A47F1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600A-6605-4CB5-9B47-77E945F0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3E3-8B1C-4E45-8BFF-C7167441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CF1-4D2C-4534-A515-9A89C10C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DE3E-246C-4276-BA79-C9037469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BA60-2F90-4A3E-A4D8-63C79F8E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CF74-E9A9-4303-86B8-4B2C0E05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5F84-1491-4C3F-B1A0-40A516B9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E84D-4E9C-4386-96AB-3B1003B5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25D2-A537-4DFC-B9F0-CDFEFD41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5025-9010-4DC8-A9B1-5C7974A0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E9B6-69E7-4B84-A412-20C7F2B9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CFA4-3C48-42C9-B935-D2F69F13D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linguistic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Adapted from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sto MT"/>
              </a:rPr>
              <a:t>Classroom Instruction tha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Will Pope, Ken Dandu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Instructional Coa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TRU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March 13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68880" y="1600200"/>
            <a:ext cx="2995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linguistic Representation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652840" y="1727280"/>
            <a:ext cx="3838320" cy="4267080"/>
            <a:chOff x="2652840" y="1727280"/>
            <a:chExt cx="3838320" cy="4267080"/>
          </a:xfrm>
        </p:grpSpPr>
        <p:sp>
          <p:nvSpPr>
            <p:cNvPr id="53" name="_s3130"/>
            <p:cNvSpPr/>
            <p:nvPr/>
          </p:nvSpPr>
          <p:spPr>
            <a:xfrm flipH="1" flipV="1">
              <a:off x="3647880" y="3327120"/>
              <a:ext cx="463320" cy="2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00"/>
            <p:cNvSpPr/>
            <p:nvPr/>
          </p:nvSpPr>
          <p:spPr>
            <a:xfrm>
              <a:off x="2652840" y="252720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3129"/>
            <p:cNvSpPr/>
            <p:nvPr/>
          </p:nvSpPr>
          <p:spPr>
            <a:xfrm flipH="1">
              <a:off x="3647880" y="4127400"/>
              <a:ext cx="4633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098"/>
            <p:cNvSpPr/>
            <p:nvPr/>
          </p:nvSpPr>
          <p:spPr>
            <a:xfrm>
              <a:off x="2652840" y="412740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3128"/>
            <p:cNvSpPr/>
            <p:nvPr/>
          </p:nvSpPr>
          <p:spPr>
            <a:xfrm>
              <a:off x="4572000" y="439272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085"/>
            <p:cNvSpPr/>
            <p:nvPr/>
          </p:nvSpPr>
          <p:spPr>
            <a:xfrm>
              <a:off x="4038480" y="4927680"/>
              <a:ext cx="1067040" cy="10666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127"/>
            <p:cNvSpPr/>
            <p:nvPr/>
          </p:nvSpPr>
          <p:spPr>
            <a:xfrm>
              <a:off x="5032440" y="4127400"/>
              <a:ext cx="4633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116"/>
            <p:cNvSpPr/>
            <p:nvPr/>
          </p:nvSpPr>
          <p:spPr>
            <a:xfrm>
              <a:off x="5424480" y="412740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126"/>
            <p:cNvSpPr/>
            <p:nvPr/>
          </p:nvSpPr>
          <p:spPr>
            <a:xfrm flipV="1">
              <a:off x="5032440" y="3327120"/>
              <a:ext cx="463320" cy="2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083"/>
            <p:cNvSpPr/>
            <p:nvPr/>
          </p:nvSpPr>
          <p:spPr>
            <a:xfrm>
              <a:off x="5424480" y="252720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125"/>
            <p:cNvSpPr/>
            <p:nvPr/>
          </p:nvSpPr>
          <p:spPr>
            <a:xfrm flipV="1">
              <a:off x="4572000" y="279396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081"/>
            <p:cNvSpPr/>
            <p:nvPr/>
          </p:nvSpPr>
          <p:spPr>
            <a:xfrm>
              <a:off x="4038480" y="1727280"/>
              <a:ext cx="1067040" cy="10666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080"/>
            <p:cNvSpPr/>
            <p:nvPr/>
          </p:nvSpPr>
          <p:spPr>
            <a:xfrm>
              <a:off x="4038480" y="3328920"/>
              <a:ext cx="106704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is stored two way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inguistic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agery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theory has been called “dual-cod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see Paivio, 1969, 1971, 199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 Idea continu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re we use both systems of representation -- linguistic and non-linguistic -- the better we are able to recall knowledge.” (pg 7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earch on NL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 date and foc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Stud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ile G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1989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lingui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q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 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 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 6,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 38, 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 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 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rls of Wis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just seems so perfect for EL and SEL instruc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andurand &amp; Pope, 20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Doesn’t Tell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room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/how often do you have to do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backg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of diff ap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7:52:49Z</dcterms:created>
  <dc:creator>willard.pope</dc:creator>
  <dc:description/>
  <dc:language>en-US</dc:language>
  <cp:lastModifiedBy>Kenneth Dandurand</cp:lastModifiedBy>
  <dcterms:modified xsi:type="dcterms:W3CDTF">2009-03-07T00:21:04Z</dcterms:modified>
  <cp:revision>8</cp:revision>
  <dc:subject/>
  <dc:title>Nonlinguistic Representations</dc:title>
</cp:coreProperties>
</file>